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D02-B40F-4636-ADA7-93263DB4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565-1551-4D21-9CE6-8203C250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082-A6B9-4A38-B9B9-B2455CC5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1B3-C225-4CF2-ABFC-4317232C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C7A-2943-4737-B100-AEC2064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0AC-F31F-42EA-87AE-B6FF7053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C2B-D839-4A29-A02B-C03F7374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179-E1BD-4F37-81FE-984F010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3F7-4944-444C-846D-D391117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C28-F134-4898-9EF3-DF49479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7F6-0ECF-418F-99FF-E457D06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3C1-CA8A-4482-9C1A-6D9A7AAF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6E1-56C4-4A09-8AF3-3768CAFC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50states.com/vermon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bensguide.gpo.gov/3-5/state/vermont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71028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postcardsfrom.com/stamp/stamp-vt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115800">
            <a:off x="837720" y="228600"/>
            <a:ext cx="6172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361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41e3eb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ermo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41e3eb"/>
                  </a:gs>
                </a:gsLst>
                <a:lin ang="588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43434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4191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2286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state song, 10/7/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/v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21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tate Name: Verm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tate Capital: Montpel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Population: 623,050 ( us census 2005 estim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Entered the Union: 14    march 14,179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tto: Freedom and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Nickname: the green mountai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Flower: Red Cl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Bird: Hermit Thr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ng :Hail Verm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3736800"/>
            <a:ext cx="24382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eaning Behind Name: Green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Interesting Facts: no gemstones but has Granite, Marble, Slate and minerals ( talc, grossularite, gran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32511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6248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Vermont: Map and State Flag"/>
          <p:cNvPicPr/>
          <p:nvPr/>
        </p:nvPicPr>
        <p:blipFill>
          <a:blip r:embed="rId1"/>
          <a:srcRect l="14994" t="35369" r="12500" b="0"/>
          <a:stretch/>
        </p:blipFill>
        <p:spPr>
          <a:xfrm>
            <a:off x="6095880" y="1143000"/>
            <a:ext cx="3048120" cy="541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Vermont: Map and State Flag"/>
          <p:cNvPicPr/>
          <p:nvPr/>
        </p:nvPicPr>
        <p:blipFill>
          <a:blip r:embed="rId2"/>
          <a:srcRect l="0" t="0" r="0" b="69426"/>
          <a:stretch/>
        </p:blipFill>
        <p:spPr>
          <a:xfrm>
            <a:off x="0" y="0"/>
            <a:ext cx="495288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34290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Verm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ember 22,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vermo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Vermont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04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This is the state and the fl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2578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tpelier, 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ptember 23, 2010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7102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52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fornian FB"/>
              </a:rPr>
              <a:t>This is a beautiful place to be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opyright © 1997 WriteLine. All Rights Reserved. Hermit Thrush stamp"/>
          <p:cNvPicPr/>
          <p:nvPr/>
        </p:nvPicPr>
        <p:blipFill>
          <a:blip r:embed="rId1"/>
          <a:srcRect l="10343" t="7642" r="10343" b="8398"/>
          <a:stretch/>
        </p:blipFill>
        <p:spPr>
          <a:xfrm>
            <a:off x="457200" y="304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opyright © 1997 WriteLine. All Rights Reserved. Red Clover stamp"/>
          <p:cNvPicPr/>
          <p:nvPr/>
        </p:nvPicPr>
        <p:blipFill>
          <a:blip r:embed="rId2"/>
          <a:srcRect l="9612" t="9622" r="9612" b="7691"/>
          <a:stretch/>
        </p:blipFill>
        <p:spPr>
          <a:xfrm>
            <a:off x="5181480" y="274320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572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11480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mont State Stam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3, 20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v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99072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This is the state bird and f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55Z</dcterms:created>
  <dc:creator>install</dc:creator>
  <dc:description/>
  <dc:language>en-US</dc:language>
  <cp:lastModifiedBy>install</cp:lastModifiedBy>
  <dcterms:modified xsi:type="dcterms:W3CDTF">2010-10-14T13:19:54Z</dcterms:modified>
  <cp:revision>15</cp:revision>
  <dc:subject/>
  <dc:title>Slide 1</dc:title>
</cp:coreProperties>
</file>